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554-DCF0-4404-885D-1AB1E737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5F0-5D1F-4C18-9809-B1995F7D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4EF-8FD9-47A4-9B61-6DF1218B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B66-B7A5-4FFE-9E9F-CD583DF3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C7A-49DB-40E6-BBC9-394F2A9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A8D-7AED-4615-9A04-7A8CC983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EE5-5FB1-4972-A152-6514991D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C39-483F-4D26-B54B-DDBF1BE6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502-7279-4081-90E7-5C76071A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D39-E55B-4293-9FC6-F8E5E71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1C9-0C6D-4219-9336-E87EDA68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384-94CB-4291-BF4E-E0B3890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D41-652A-4425-B62C-0D6579533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CRAIGS                                  WHITECRAIGS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0" descr="Whitecraigs 2.JPG"/>
          <p:cNvPicPr/>
          <p:nvPr/>
        </p:nvPicPr>
        <p:blipFill>
          <a:blip r:embed="rId1"/>
          <a:stretch/>
        </p:blipFill>
        <p:spPr>
          <a:xfrm>
            <a:off x="415800" y="333360"/>
            <a:ext cx="1152720" cy="12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Whitecraigs 50th.JPG"/>
          <p:cNvPicPr/>
          <p:nvPr/>
        </p:nvPicPr>
        <p:blipFill>
          <a:blip r:embed="rId2"/>
          <a:stretch/>
        </p:blipFill>
        <p:spPr>
          <a:xfrm>
            <a:off x="2073240" y="333360"/>
            <a:ext cx="124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43:42Z</dcterms:modified>
  <cp:revision>22</cp:revision>
  <dc:subject/>
  <dc:title>PowerPoint Presentation</dc:title>
</cp:coreProperties>
</file>